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36F3-B3E3-40BF-B0CD-AC9A3029F2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3B0F-05B9-4906-9397-D7487B1FBA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31E3-7926-4CA5-BB0C-09F0E3C2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5F6-5126-4496-ACD5-C2184574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C5E-AB34-4028-A46C-B69C02F2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E50-6F25-47C0-95C0-A78E9FF8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550B-AD0F-43F4-B578-5DF9F1C4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251-CA16-4284-882E-122832AF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FACB-5F0B-4685-8D7D-A76F54C7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EE8E-E00B-4F3A-A729-7BD1984A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FE95-BFF7-40A6-8E2E-7512B1B4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FEAD-6ADE-4F7E-BA45-88C4C6B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D69B-D9CD-4AB0-B82D-1E2CC3C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91A-8BE4-4E81-ADE4-5B7C0CB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98E-28C0-4DD4-9355-12BC717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2144-3FA3-46E2-BE5B-772154F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8935-4FCB-4BC2-AEFA-A82BC9FA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842D-8CEE-4EA6-B68D-41E6C56F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B54C-DAA9-482A-84F0-39645D4E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6EBA-07B2-4D64-8767-A12B8A2E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4F39-3BAE-4EB7-8976-207FC4E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07EC2-F1C9-4733-8DCE-4CC728AC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036C-FA4E-40DC-AC4E-6CE9ED2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96E0F-6F61-4192-8AC6-A704D683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AA5-919D-4EC1-86D0-C99912DF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A9C6-786E-4DEF-BC5C-ECE3DE7D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02EB-34F0-41C9-A731-4B800B75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19E23-E83A-4D71-ADF5-50806B9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E104-C889-44AF-A081-480B8304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BB012-ED42-4C1B-BBAA-3151B0C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B665-724E-4CD2-992F-121A2594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17B9-5376-4BCD-94CA-DE46CD90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32840-718E-4CE7-A9FB-9FA97285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06090-6EC4-4FF1-9E19-69F8149C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CD86-4A2A-42B4-915B-4C524707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539-1459-490D-A128-C42E76E3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4589-675C-4DBA-91F3-A9351418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35B7-2DEC-44BD-9DB2-3DBB3ECE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53940-BD30-4FD6-A53B-1A9388B6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F7A1C-FD61-416C-9775-99118DD2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36C7-BF97-49F8-AD5C-60129ECA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4553-9EB2-43C0-9FC3-75433EB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569A6-5158-41BB-8B77-1D8FCEF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8BA2-BABF-4628-BEFC-14EF4E70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8334F-347B-41C6-ADA6-4837DA96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D06-037D-4338-B461-41DA5977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67A-6BA8-4488-AB80-7BDDECD7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AD0-BAB4-474F-895B-DB7BB0A6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9BA-31FF-4648-8C66-516169D5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660-84AF-4EB1-AFBD-DF1A8A6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E33C-E341-402E-A5EF-F5C19A90468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026D-3B92-4192-9AC7-2B7EE92B2F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39E-B466-419E-9B2D-8CFFBAFEF83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5DF5-592F-487B-9782-827DAC74F63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image" Target="../media/image21.png"/><Relationship Id="rId4" Type="http://schemas.openxmlformats.org/officeDocument/2006/relationships/slide" Target="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24.png"/><Relationship Id="rId4" Type="http://schemas.openxmlformats.org/officeDocument/2006/relationships/slide" Target="slide4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8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3.xml"/><Relationship Id="rId4" Type="http://schemas.openxmlformats.org/officeDocument/2006/relationships/image" Target="../media/image18.png"/><Relationship Id="rId5" Type="http://schemas.openxmlformats.org/officeDocument/2006/relationships/slide" Target="slide5.xml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182520" y="-30240"/>
            <a:ext cx="8443800" cy="32371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  учитель математик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Алешковской СОШ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ина М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9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857160" y="642960"/>
          <a:ext cx="7929720" cy="1393920"/>
        </p:xfrm>
        <a:graphic>
          <a:graphicData uri="http://schemas.openxmlformats.org/drawingml/2006/table">
            <a:tbl>
              <a:tblPr/>
              <a:tblGrid>
                <a:gridCol w="7929720"/>
              </a:tblGrid>
              <a:tr h="139392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595959"/>
                          </a:solidFill>
                          <a:uFillTx/>
                          <a:latin typeface="Times New Roman"/>
                          <a:ea typeface="Times New Roman"/>
                        </a:rPr>
                        <a:t>Решаем самостоятельно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2.1.На рисунке показано изменение температуры воздуха на протяжении трех суток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По горизонтали указывается дата и время суток, по вертикали — значение температуры в градусах Цельсия. Определите по рисунку наименьшую температуру воздуха 23 январ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4" name="Рисунок 13" descr="MA.E10.B2.84/img512721n1.png"/>
          <p:cNvPicPr/>
          <p:nvPr/>
        </p:nvPicPr>
        <p:blipFill>
          <a:blip r:embed="rId1"/>
          <a:stretch/>
        </p:blipFill>
        <p:spPr>
          <a:xfrm>
            <a:off x="714240" y="2143080"/>
            <a:ext cx="80010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641520" y="648720"/>
            <a:ext cx="7980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.1.На рисунке показано изменение температуры воздуха на протяжении тре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о горизонтали указывается дата и время суток, по вертикали — знач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температуры в градусах Цельсия. Определите по рисунку разность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наибольшей и наименьшей температурами воздуха 24 янва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Рисунок 25" descr="MA.E10.B2.88/img512725n1.png"/>
          <p:cNvPicPr/>
          <p:nvPr/>
        </p:nvPicPr>
        <p:blipFill>
          <a:blip r:embed="rId1"/>
          <a:stretch/>
        </p:blipFill>
        <p:spPr>
          <a:xfrm>
            <a:off x="357120" y="2143080"/>
            <a:ext cx="8286840" cy="3952800"/>
          </a:xfrm>
          <a:prstGeom prst="rect">
            <a:avLst/>
          </a:prstGeom>
          <a:ln w="0">
            <a:noFill/>
          </a:ln>
        </p:spPr>
      </p:pic>
      <p:grpSp>
        <p:nvGrpSpPr>
          <p:cNvPr id="297" name="Стрелка влево 3"/>
          <p:cNvGrpSpPr/>
          <p:nvPr/>
        </p:nvGrpSpPr>
        <p:grpSpPr>
          <a:xfrm>
            <a:off x="7858080" y="6108840"/>
            <a:ext cx="646200" cy="573120"/>
            <a:chOff x="7858080" y="6108840"/>
            <a:chExt cx="646200" cy="573120"/>
          </a:xfrm>
        </p:grpSpPr>
        <p:pic>
          <p:nvPicPr>
            <p:cNvPr id="298" name="Стрелка влево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58080" y="6108840"/>
              <a:ext cx="646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037360" y="6251400"/>
              <a:ext cx="3924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Стрелка вправо 4"/>
          <p:cNvGrpSpPr/>
          <p:nvPr/>
        </p:nvGrpSpPr>
        <p:grpSpPr>
          <a:xfrm>
            <a:off x="8583480" y="6102360"/>
            <a:ext cx="633600" cy="590400"/>
            <a:chOff x="8583480" y="6102360"/>
            <a:chExt cx="633600" cy="590400"/>
          </a:xfrm>
        </p:grpSpPr>
        <p:pic>
          <p:nvPicPr>
            <p:cNvPr id="301" name="Стрелка вправо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583480" y="6102360"/>
              <a:ext cx="63360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8655120" y="6251400"/>
              <a:ext cx="380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539640" y="722520"/>
            <a:ext cx="82123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.3. На рисунке жирными точками показана среднемесячная температура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Сочи за каждый месяц 1920 года. По горизонтали указываются меся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о вертикали - температура в градусах Цельсия. Для наглядности жирные то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оединены линией. Определите по рисунку наименьшую среднемесячную температу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период с мая по декабрь 1920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Рисунок 1088" descr="C832CC25041781D84DFA41947513F25B/simg1_1258043976.png"/>
          <p:cNvPicPr/>
          <p:nvPr/>
        </p:nvPicPr>
        <p:blipFill>
          <a:blip r:embed="rId1"/>
          <a:stretch/>
        </p:blipFill>
        <p:spPr>
          <a:xfrm>
            <a:off x="357120" y="2500200"/>
            <a:ext cx="8429760" cy="3571920"/>
          </a:xfrm>
          <a:prstGeom prst="rect">
            <a:avLst/>
          </a:prstGeom>
          <a:ln w="0">
            <a:noFill/>
          </a:ln>
        </p:spPr>
      </p:pic>
      <p:grpSp>
        <p:nvGrpSpPr>
          <p:cNvPr id="305" name="Стрелка влево 3"/>
          <p:cNvGrpSpPr/>
          <p:nvPr/>
        </p:nvGrpSpPr>
        <p:grpSpPr>
          <a:xfrm>
            <a:off x="7785000" y="6181560"/>
            <a:ext cx="554040" cy="500400"/>
            <a:chOff x="7785000" y="6181560"/>
            <a:chExt cx="554040" cy="500400"/>
          </a:xfrm>
        </p:grpSpPr>
        <p:pic>
          <p:nvPicPr>
            <p:cNvPr id="306" name="Стрелка влево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6181560"/>
              <a:ext cx="55404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7947000" y="6303960"/>
              <a:ext cx="317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трелка вправо 4"/>
          <p:cNvGrpSpPr/>
          <p:nvPr/>
        </p:nvGrpSpPr>
        <p:grpSpPr>
          <a:xfrm>
            <a:off x="8358120" y="6175440"/>
            <a:ext cx="620640" cy="517320"/>
            <a:chOff x="8358120" y="6175440"/>
            <a:chExt cx="620640" cy="517320"/>
          </a:xfrm>
        </p:grpSpPr>
        <p:pic>
          <p:nvPicPr>
            <p:cNvPr id="309" name="Стрелка вправо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358120" y="6175440"/>
              <a:ext cx="620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429760" y="6303960"/>
              <a:ext cx="388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8"/>
          <p:cNvSpPr/>
          <p:nvPr/>
        </p:nvSpPr>
        <p:spPr>
          <a:xfrm>
            <a:off x="463320" y="579600"/>
            <a:ext cx="81270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.4. На рисунке жирными точками показана среднемесячная температура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за каждый месяц 1920 года. По горизонтали указываются месяцы, по вертикал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температура в градусах Цельсия. Для наглядности жирные точки соединены лин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Определите по рисунку, какой была наибольшая среднемесячная темпера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Сочи в 1920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884" descr="4076181D603CB51D45CE9EBCF894F7BD/simg1_1258043968.png"/>
          <p:cNvPicPr/>
          <p:nvPr/>
        </p:nvPicPr>
        <p:blipFill>
          <a:blip r:embed="rId1"/>
          <a:stretch/>
        </p:blipFill>
        <p:spPr>
          <a:xfrm>
            <a:off x="285840" y="2500200"/>
            <a:ext cx="8501040" cy="3714840"/>
          </a:xfrm>
          <a:prstGeom prst="rect">
            <a:avLst/>
          </a:prstGeom>
          <a:ln w="0">
            <a:noFill/>
          </a:ln>
        </p:spPr>
      </p:pic>
      <p:grpSp>
        <p:nvGrpSpPr>
          <p:cNvPr id="313" name="Стрелка влево 21"/>
          <p:cNvGrpSpPr/>
          <p:nvPr/>
        </p:nvGrpSpPr>
        <p:grpSpPr>
          <a:xfrm>
            <a:off x="7785000" y="6181560"/>
            <a:ext cx="554040" cy="500400"/>
            <a:chOff x="7785000" y="6181560"/>
            <a:chExt cx="554040" cy="500400"/>
          </a:xfrm>
        </p:grpSpPr>
        <p:pic>
          <p:nvPicPr>
            <p:cNvPr id="314" name="Стрелка влево 2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85000" y="6181560"/>
              <a:ext cx="55404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7947000" y="6303960"/>
              <a:ext cx="317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Стрелка вправо 22"/>
          <p:cNvGrpSpPr/>
          <p:nvPr/>
        </p:nvGrpSpPr>
        <p:grpSpPr>
          <a:xfrm>
            <a:off x="8358120" y="6175440"/>
            <a:ext cx="620640" cy="517320"/>
            <a:chOff x="8358120" y="6175440"/>
            <a:chExt cx="620640" cy="517320"/>
          </a:xfrm>
        </p:grpSpPr>
        <p:pic>
          <p:nvPicPr>
            <p:cNvPr id="317" name="Стрелка вправо 22" descr=""/>
            <p:cNvPicPr/>
            <p:nvPr/>
          </p:nvPicPr>
          <p:blipFill>
            <a:blip r:embed="rId4"/>
            <a:stretch/>
          </p:blipFill>
          <p:spPr>
            <a:xfrm>
              <a:off x="8358120" y="6175440"/>
              <a:ext cx="620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8429760" y="6303960"/>
              <a:ext cx="388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240120" y="723600"/>
            <a:ext cx="855360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Решаем самостоятельно</a:t>
            </a:r>
            <a:r>
              <a:rPr b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.5. На рисунке жирными точками показано суточное количество осад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ыпадавших в Казани с 3 по 15 февраля 1909 года. По горизонта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указываются числа месяца, по вертикали — количество осадков, выпавш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соответствующий день, в миллиметрах. Для наглядности жирные точки на рису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оединены линией. Определите по рисунку, какого числа выпало наибольшее кол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осад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1934" descr="MA.E10.B2.187/innerimg0.png"/>
          <p:cNvPicPr/>
          <p:nvPr/>
        </p:nvPicPr>
        <p:blipFill>
          <a:blip r:embed="rId1"/>
          <a:stretch/>
        </p:blipFill>
        <p:spPr>
          <a:xfrm>
            <a:off x="428760" y="2786040"/>
            <a:ext cx="8429400" cy="3286080"/>
          </a:xfrm>
          <a:prstGeom prst="rect">
            <a:avLst/>
          </a:prstGeom>
          <a:ln w="0">
            <a:noFill/>
          </a:ln>
        </p:spPr>
      </p:pic>
      <p:grpSp>
        <p:nvGrpSpPr>
          <p:cNvPr id="321" name="Стрелка влево 3"/>
          <p:cNvGrpSpPr/>
          <p:nvPr/>
        </p:nvGrpSpPr>
        <p:grpSpPr>
          <a:xfrm>
            <a:off x="7785000" y="6181560"/>
            <a:ext cx="554040" cy="500400"/>
            <a:chOff x="7785000" y="6181560"/>
            <a:chExt cx="554040" cy="500400"/>
          </a:xfrm>
        </p:grpSpPr>
        <p:pic>
          <p:nvPicPr>
            <p:cNvPr id="322" name="Стрелка влево 3" descr=""/>
            <p:cNvPicPr/>
            <p:nvPr/>
          </p:nvPicPr>
          <p:blipFill>
            <a:blip r:embed="rId2"/>
            <a:stretch/>
          </p:blipFill>
          <p:spPr>
            <a:xfrm>
              <a:off x="7785000" y="6181560"/>
              <a:ext cx="55404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7947000" y="6303960"/>
              <a:ext cx="317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Стрелка вправо 4"/>
          <p:cNvGrpSpPr/>
          <p:nvPr/>
        </p:nvGrpSpPr>
        <p:grpSpPr>
          <a:xfrm>
            <a:off x="8358120" y="6175440"/>
            <a:ext cx="620640" cy="517320"/>
            <a:chOff x="8358120" y="6175440"/>
            <a:chExt cx="620640" cy="517320"/>
          </a:xfrm>
        </p:grpSpPr>
        <p:pic>
          <p:nvPicPr>
            <p:cNvPr id="325" name="Стрелка вправо 4" descr=""/>
            <p:cNvPicPr/>
            <p:nvPr/>
          </p:nvPicPr>
          <p:blipFill>
            <a:blip r:embed="rId3"/>
            <a:stretch/>
          </p:blipFill>
          <p:spPr>
            <a:xfrm>
              <a:off x="8358120" y="6175440"/>
              <a:ext cx="6206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29760" y="6303960"/>
              <a:ext cx="388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1" descr="diagnos.41"/>
          <p:cNvPicPr/>
          <p:nvPr/>
        </p:nvPicPr>
        <p:blipFill>
          <a:blip r:embed="rId1"/>
          <a:stretch/>
        </p:blipFill>
        <p:spPr>
          <a:xfrm>
            <a:off x="500040" y="2000160"/>
            <a:ext cx="7929720" cy="38577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642960" y="577440"/>
            <a:ext cx="7116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.1. Посев семян тыквы рекомендуется проводить в мае при дневной температуре воздуха не менее +12 ° С. На рисунке показан прогноз дневной температуры воздуха в первой и второй декадах мая. Определите, в течение скольких дней за этот период можно производить посев ты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Стрелка влево 5"/>
          <p:cNvGrpSpPr/>
          <p:nvPr/>
        </p:nvGrpSpPr>
        <p:grpSpPr>
          <a:xfrm>
            <a:off x="7785000" y="6035760"/>
            <a:ext cx="554040" cy="504720"/>
            <a:chOff x="7785000" y="6035760"/>
            <a:chExt cx="554040" cy="504720"/>
          </a:xfrm>
        </p:grpSpPr>
        <p:pic>
          <p:nvPicPr>
            <p:cNvPr id="330" name="Стрелка влево 5" descr=""/>
            <p:cNvPicPr/>
            <p:nvPr/>
          </p:nvPicPr>
          <p:blipFill>
            <a:blip r:embed="rId2"/>
            <a:stretch/>
          </p:blipFill>
          <p:spPr>
            <a:xfrm>
              <a:off x="7785000" y="6035760"/>
              <a:ext cx="554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7947000" y="6161040"/>
              <a:ext cx="317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Стрелка вправо 8"/>
          <p:cNvGrpSpPr/>
          <p:nvPr/>
        </p:nvGrpSpPr>
        <p:grpSpPr>
          <a:xfrm>
            <a:off x="8358120" y="6029280"/>
            <a:ext cx="620640" cy="523800"/>
            <a:chOff x="8358120" y="6029280"/>
            <a:chExt cx="620640" cy="523800"/>
          </a:xfrm>
        </p:grpSpPr>
        <p:pic>
          <p:nvPicPr>
            <p:cNvPr id="333" name="Стрелка вправо 8" descr=""/>
            <p:cNvPicPr/>
            <p:nvPr/>
          </p:nvPicPr>
          <p:blipFill>
            <a:blip r:embed="rId3"/>
            <a:stretch/>
          </p:blipFill>
          <p:spPr>
            <a:xfrm>
              <a:off x="8358120" y="6029280"/>
              <a:ext cx="6206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429760" y="6161040"/>
              <a:ext cx="3888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600840" y="365040"/>
            <a:ext cx="74167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5.1. На графике, изображенном на рисунке, представлено изменение бирж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тоимости акций газодобывающей компании в первые две недели нояб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 ноября бизнесмен приобрел 10 акций этой компании. Шесть из них 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родал 6 ноября, а 13 ноября — остальные 4. Сколько рублей потеря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бизнесмен в результате этих операц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366" descr="diagnos.81"/>
          <p:cNvPicPr/>
          <p:nvPr/>
        </p:nvPicPr>
        <p:blipFill>
          <a:blip r:embed="rId1"/>
          <a:stretch/>
        </p:blipFill>
        <p:spPr>
          <a:xfrm>
            <a:off x="214200" y="2143080"/>
            <a:ext cx="8286840" cy="3643200"/>
          </a:xfrm>
          <a:prstGeom prst="rect">
            <a:avLst/>
          </a:prstGeom>
          <a:ln w="0">
            <a:noFill/>
          </a:ln>
        </p:spPr>
      </p:pic>
      <p:grpSp>
        <p:nvGrpSpPr>
          <p:cNvPr id="337" name="Стрелка влево 5"/>
          <p:cNvGrpSpPr/>
          <p:nvPr/>
        </p:nvGrpSpPr>
        <p:grpSpPr>
          <a:xfrm>
            <a:off x="8143920" y="6108840"/>
            <a:ext cx="646200" cy="573120"/>
            <a:chOff x="8143920" y="6108840"/>
            <a:chExt cx="646200" cy="573120"/>
          </a:xfrm>
        </p:grpSpPr>
        <p:pic>
          <p:nvPicPr>
            <p:cNvPr id="338" name="Стрелка влево 5" descr=""/>
            <p:cNvPicPr/>
            <p:nvPr/>
          </p:nvPicPr>
          <p:blipFill>
            <a:blip r:embed="rId2"/>
            <a:stretch/>
          </p:blipFill>
          <p:spPr>
            <a:xfrm>
              <a:off x="8143920" y="6108840"/>
              <a:ext cx="646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8323200" y="6251400"/>
              <a:ext cx="392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94840" y="650880"/>
            <a:ext cx="86922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5.2. На графике, изображенном на рисунке, представлено изменение бирже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стоимости акций нефтеперерабатывающей компании в первые две недели октябр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1 октября бизнесмен приобрел 10 акций этой компании. Три из них он продал 12 октябр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а 13 октября продал остальные 7. Сколько рублей потерял бизнесмен в результа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   </a:t>
            </a: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этих операц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376" descr="diagnos.71"/>
          <p:cNvPicPr/>
          <p:nvPr/>
        </p:nvPicPr>
        <p:blipFill>
          <a:blip r:embed="rId1"/>
          <a:stretch/>
        </p:blipFill>
        <p:spPr>
          <a:xfrm>
            <a:off x="0" y="2286000"/>
            <a:ext cx="8429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789120" y="650880"/>
            <a:ext cx="74167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Решаем самостоятельно</a:t>
            </a:r>
            <a:r>
              <a:rPr b="1" lang="ru-RU" sz="2000" spc="-1" strike="noStrike" u="sng">
                <a:solidFill>
                  <a:srgbClr val="4d4b41"/>
                </a:solidFill>
                <a:uFillTx/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5.3. На графике, изображенном на рисунке, представлено изменение бирж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стоимости акций горнодобывающей компании в первой половине сентябр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7 сентября бизнесмен купил пакет акций, а 13 сентября продал е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В результате этих операций прибыль бизнесмена составила 3600 руб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Сколько акций было в пакет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Рисунок 371" descr="diagnos.91"/>
          <p:cNvPicPr/>
          <p:nvPr/>
        </p:nvPicPr>
        <p:blipFill>
          <a:blip r:embed="rId1"/>
          <a:stretch/>
        </p:blipFill>
        <p:spPr>
          <a:xfrm>
            <a:off x="571680" y="2571840"/>
            <a:ext cx="7643520" cy="30718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4500720" y="5429160"/>
            <a:ext cx="285480" cy="398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815400" y="719640"/>
            <a:ext cx="7467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5.4. На графике, изображенном на рисунке, представлено изменение бирже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тоимости акций газодобывающей компании в первые две недели апр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первую неделю апреля бизнесмен купил 14 акций, а потом продал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на второй неделе. Какую наибольшую прибыль он мог получи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361" descr="diagnos.61"/>
          <p:cNvPicPr/>
          <p:nvPr/>
        </p:nvPicPr>
        <p:blipFill>
          <a:blip r:embed="rId1"/>
          <a:stretch/>
        </p:blipFill>
        <p:spPr>
          <a:xfrm>
            <a:off x="428760" y="2000160"/>
            <a:ext cx="8001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15080" y="792360"/>
            <a:ext cx="8704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. На рисунке жирными точками показана среднесуточная температура воздух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 Пскове каждый день с 15 по 28 марта 1959 года. По горизонтали указ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числа месяца, по вертикали - температура в градусах Цельсия. Для наглядности жир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точки соединены линией. Определите по рисунку, какой была наименьшая среднесуто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температура за указанный пери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866" descr="3E483B6E2892A7C84327289B492887FA/simg1_1258043782.png"/>
          <p:cNvPicPr/>
          <p:nvPr/>
        </p:nvPicPr>
        <p:blipFill>
          <a:blip r:embed="rId1"/>
          <a:stretch/>
        </p:blipFill>
        <p:spPr>
          <a:xfrm>
            <a:off x="214200" y="2357280"/>
            <a:ext cx="8001000" cy="31435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ая соединительная линия 6"/>
          <p:cNvSpPr/>
          <p:nvPr/>
        </p:nvSpPr>
        <p:spPr>
          <a:xfrm>
            <a:off x="928800" y="4500720"/>
            <a:ext cx="7286400" cy="1440"/>
          </a:xfrm>
          <a:prstGeom prst="line">
            <a:avLst/>
          </a:prstGeom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73840" y="4286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"/>
          <p:cNvSpPr/>
          <p:nvPr/>
        </p:nvSpPr>
        <p:spPr>
          <a:xfrm>
            <a:off x="1076040" y="6000840"/>
            <a:ext cx="11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TextBox 9"/>
          <p:cNvGrpSpPr/>
          <p:nvPr/>
        </p:nvGrpSpPr>
        <p:grpSpPr>
          <a:xfrm>
            <a:off x="5421960" y="6156360"/>
            <a:ext cx="2986560" cy="536400"/>
            <a:chOff x="5421960" y="6156360"/>
            <a:chExt cx="2986560" cy="536400"/>
          </a:xfrm>
        </p:grpSpPr>
        <p:pic>
          <p:nvPicPr>
            <p:cNvPr id="210" name="TextBox 9" descr=""/>
            <p:cNvPicPr/>
            <p:nvPr/>
          </p:nvPicPr>
          <p:blipFill>
            <a:blip r:embed="rId2"/>
            <a:stretch/>
          </p:blipFill>
          <p:spPr>
            <a:xfrm>
              <a:off x="5456160" y="6156360"/>
              <a:ext cx="2906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421960" y="6215040"/>
              <a:ext cx="2986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ешите </a:t>
              </a: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 action="ppaction://hlinksldjump"/>
                </a:rPr>
                <a:t>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00040" y="571680"/>
          <a:ext cx="8072640" cy="199368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199368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4d4b41"/>
                          </a:solidFill>
                          <a:uFillTx/>
                          <a:latin typeface="Times New Roman"/>
                          <a:ea typeface="Times New Roman"/>
                        </a:rPr>
                        <a:t>Решаем самостоятельно</a:t>
                      </a:r>
                      <a:r>
                        <a:rPr b="1" lang="ru-RU" sz="2000" spc="-1" strike="noStrike" u="sng">
                          <a:solidFill>
                            <a:srgbClr val="4d4b41"/>
                          </a:solidFill>
                          <a:uFillTx/>
                          <a:latin typeface="Times New Roman"/>
                          <a:ea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d4b41"/>
                          </a:solidFill>
                          <a:latin typeface="Times New Roman"/>
                          <a:ea typeface="Times New Roman"/>
                        </a:rPr>
                        <a:t>6.1. На рисунке жирными точками показано суточное количество осадков, выпадавших в Казани с 3 по 15 февраля 1909 года. По горизонтали указываются числа месяца, </a:t>
                      </a: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по</a:t>
                      </a:r>
                      <a:r>
                        <a:rPr b="1" lang="ru-RU" sz="1600" spc="-1" strike="noStrike">
                          <a:solidFill>
                            <a:srgbClr val="4d4b41"/>
                          </a:solidFill>
                          <a:latin typeface="Times New Roman"/>
                          <a:ea typeface="Times New Roman"/>
                        </a:rPr>
                        <a:t> вертикали — количество осадков, выпавших в соответствующий день, в миллиметрах. Для наглядности жирные точки на рисунке соединены линией. Определите по рисунку, сколько дней из данного периода не выпадало осад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Рисунок 1922" descr="MA.E10.B2.183/innerimg0.png"/>
          <p:cNvPicPr/>
          <p:nvPr/>
        </p:nvPicPr>
        <p:blipFill>
          <a:blip r:embed="rId1"/>
          <a:stretch/>
        </p:blipFill>
        <p:spPr>
          <a:xfrm>
            <a:off x="285840" y="2786040"/>
            <a:ext cx="8501040" cy="3286080"/>
          </a:xfrm>
          <a:prstGeom prst="rect">
            <a:avLst/>
          </a:prstGeom>
          <a:ln w="0">
            <a:noFill/>
          </a:ln>
        </p:spPr>
      </p:pic>
      <p:grpSp>
        <p:nvGrpSpPr>
          <p:cNvPr id="349" name="Стрелка влево 6"/>
          <p:cNvGrpSpPr/>
          <p:nvPr/>
        </p:nvGrpSpPr>
        <p:grpSpPr>
          <a:xfrm>
            <a:off x="7711920" y="6108840"/>
            <a:ext cx="646200" cy="573120"/>
            <a:chOff x="7711920" y="6108840"/>
            <a:chExt cx="646200" cy="573120"/>
          </a:xfrm>
        </p:grpSpPr>
        <p:pic>
          <p:nvPicPr>
            <p:cNvPr id="350" name="Стрелка влево 6" descr=""/>
            <p:cNvPicPr/>
            <p:nvPr/>
          </p:nvPicPr>
          <p:blipFill>
            <a:blip r:embed="rId2"/>
            <a:stretch/>
          </p:blipFill>
          <p:spPr>
            <a:xfrm>
              <a:off x="7711920" y="6108840"/>
              <a:ext cx="646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894800" y="6251400"/>
              <a:ext cx="392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Стрелка вправо 7"/>
          <p:cNvGrpSpPr/>
          <p:nvPr/>
        </p:nvGrpSpPr>
        <p:grpSpPr>
          <a:xfrm>
            <a:off x="8358120" y="6102360"/>
            <a:ext cx="620640" cy="590400"/>
            <a:chOff x="8358120" y="6102360"/>
            <a:chExt cx="620640" cy="590400"/>
          </a:xfrm>
        </p:grpSpPr>
        <p:pic>
          <p:nvPicPr>
            <p:cNvPr id="353" name="Стрелка вправо 7" descr=""/>
            <p:cNvPicPr/>
            <p:nvPr/>
          </p:nvPicPr>
          <p:blipFill>
            <a:blip r:embed="rId3"/>
            <a:stretch/>
          </p:blipFill>
          <p:spPr>
            <a:xfrm>
              <a:off x="8358120" y="6102360"/>
              <a:ext cx="620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8429760" y="6251400"/>
              <a:ext cx="3715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Рисунок 4" descr="b2.7"/>
          <p:cNvPicPr/>
          <p:nvPr/>
        </p:nvPicPr>
        <p:blipFill>
          <a:blip r:embed="rId1"/>
          <a:stretch/>
        </p:blipFill>
        <p:spPr>
          <a:xfrm>
            <a:off x="714240" y="2143080"/>
            <a:ext cx="7769520" cy="4000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857160" y="1147320"/>
            <a:ext cx="7786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4d4b41"/>
                </a:solidFill>
                <a:latin typeface="Times New Roman"/>
                <a:ea typeface="Times New Roman"/>
              </a:rPr>
              <a:t>2. На графике показано изменение температуры воздуха на протяжении трех суток, начиная с 0 часов 11 июля. На оси абсцисс отмечается время суток, на оси ординат — значение температуры в градусах. Определите по графику, до какой наибольшей температуры прогрелся воздух 13 июля. Ответ дайте в градусах Цельс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6"/>
          <p:cNvSpPr/>
          <p:nvPr/>
        </p:nvSpPr>
        <p:spPr>
          <a:xfrm flipH="1">
            <a:off x="8001000" y="2357280"/>
            <a:ext cx="1440" cy="328644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28"/>
          <p:cNvSpPr/>
          <p:nvPr/>
        </p:nvSpPr>
        <p:spPr>
          <a:xfrm flipV="1">
            <a:off x="5715000" y="2356920"/>
            <a:ext cx="1440" cy="328644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9"/>
          <p:cNvSpPr/>
          <p:nvPr/>
        </p:nvSpPr>
        <p:spPr>
          <a:xfrm>
            <a:off x="1003320" y="6286680"/>
            <a:ext cx="110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33"/>
          <p:cNvSpPr/>
          <p:nvPr/>
        </p:nvSpPr>
        <p:spPr>
          <a:xfrm flipH="1" flipV="1">
            <a:off x="1071720" y="4000680"/>
            <a:ext cx="6929280" cy="1440"/>
          </a:xfrm>
          <a:prstGeom prst="line">
            <a:avLst/>
          </a:prstGeom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TextBox 9"/>
          <p:cNvGrpSpPr/>
          <p:nvPr/>
        </p:nvGrpSpPr>
        <p:grpSpPr>
          <a:xfrm>
            <a:off x="5136120" y="6303960"/>
            <a:ext cx="2986560" cy="534960"/>
            <a:chOff x="5136120" y="6303960"/>
            <a:chExt cx="2986560" cy="534960"/>
          </a:xfrm>
        </p:grpSpPr>
        <p:pic>
          <p:nvPicPr>
            <p:cNvPr id="220" name="TextBox 9" descr=""/>
            <p:cNvPicPr/>
            <p:nvPr/>
          </p:nvPicPr>
          <p:blipFill>
            <a:blip r:embed="rId2"/>
            <a:stretch/>
          </p:blipFill>
          <p:spPr>
            <a:xfrm>
              <a:off x="5168880" y="6303960"/>
              <a:ext cx="290844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136120" y="6357960"/>
              <a:ext cx="2986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ешите </a:t>
              </a: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 action="ppaction://hlinksldjump"/>
                </a:rPr>
                <a:t>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42960" y="714240"/>
          <a:ext cx="7786800" cy="123696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123696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595959"/>
                          </a:solidFill>
                          <a:latin typeface="Times New Roman"/>
                          <a:ea typeface="Times New Roman"/>
                        </a:rPr>
                        <a:t>3. На рисунке показано изменение температуры воздуха на протяжении трех суток. По горизонтали указывается дата и время суток, по вертикали — значение температуры в градусах Цельсия. Определите по рисунку разность между наибольшей и наименьшей температурами воздуха 22 январ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Рисунок 19" descr="MA.E10.B2.86/img512723n1.png"/>
          <p:cNvPicPr/>
          <p:nvPr/>
        </p:nvPicPr>
        <p:blipFill>
          <a:blip r:embed="rId1"/>
          <a:stretch/>
        </p:blipFill>
        <p:spPr>
          <a:xfrm>
            <a:off x="0" y="1928880"/>
            <a:ext cx="7143840" cy="39528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ая соединительная линия 4"/>
          <p:cNvSpPr/>
          <p:nvPr/>
        </p:nvSpPr>
        <p:spPr>
          <a:xfrm flipV="1">
            <a:off x="926280" y="2143080"/>
            <a:ext cx="1800" cy="2787840"/>
          </a:xfrm>
          <a:prstGeom prst="line">
            <a:avLst/>
          </a:prstGeom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6"/>
          <p:cNvSpPr/>
          <p:nvPr/>
        </p:nvSpPr>
        <p:spPr>
          <a:xfrm flipV="1">
            <a:off x="2714760" y="2143080"/>
            <a:ext cx="0" cy="2857680"/>
          </a:xfrm>
          <a:prstGeom prst="line">
            <a:avLst/>
          </a:prstGeom>
          <a:ln w="255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 flipH="1" flipV="1">
            <a:off x="785880" y="3285720"/>
            <a:ext cx="1928880" cy="180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10"/>
          <p:cNvSpPr/>
          <p:nvPr/>
        </p:nvSpPr>
        <p:spPr>
          <a:xfrm flipH="1" flipV="1">
            <a:off x="785880" y="4714920"/>
            <a:ext cx="1928880" cy="14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6931800" y="300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2"/>
          <p:cNvSpPr/>
          <p:nvPr/>
        </p:nvSpPr>
        <p:spPr>
          <a:xfrm>
            <a:off x="7860600" y="300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 2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7645680" y="30002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"/>
          <p:cNvSpPr/>
          <p:nvPr/>
        </p:nvSpPr>
        <p:spPr>
          <a:xfrm>
            <a:off x="8496720" y="3000240"/>
            <a:ext cx="6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"/>
          <p:cNvSpPr/>
          <p:nvPr/>
        </p:nvSpPr>
        <p:spPr>
          <a:xfrm>
            <a:off x="1361520" y="6215040"/>
            <a:ext cx="13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 </a:t>
            </a:r>
            <a:r>
              <a:rPr b="1" lang="ru-RU" sz="2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TextBox 16"/>
          <p:cNvGrpSpPr/>
          <p:nvPr/>
        </p:nvGrpSpPr>
        <p:grpSpPr>
          <a:xfrm>
            <a:off x="5421960" y="6156360"/>
            <a:ext cx="2986560" cy="536400"/>
            <a:chOff x="5421960" y="6156360"/>
            <a:chExt cx="2986560" cy="536400"/>
          </a:xfrm>
        </p:grpSpPr>
        <p:pic>
          <p:nvPicPr>
            <p:cNvPr id="234" name="TextBox 16" descr=""/>
            <p:cNvPicPr/>
            <p:nvPr/>
          </p:nvPicPr>
          <p:blipFill>
            <a:blip r:embed="rId2"/>
            <a:stretch/>
          </p:blipFill>
          <p:spPr>
            <a:xfrm>
              <a:off x="5456160" y="6156360"/>
              <a:ext cx="2906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421960" y="6215040"/>
              <a:ext cx="2986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ешите </a:t>
              </a: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 action="ppaction://hlinksldjump"/>
                </a:rPr>
                <a:t>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f6fc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71720" y="856800"/>
            <a:ext cx="785808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Первый посев семян петрушки рекомендуется проводить в апреле при дневной температуре воздуха не менее +6° С. На рисунке показан прогноз дневной температуры воздуха в первых трех неделях апреля. Определите, в течение скольких дней за этот период можно производить посев петрушки.</a:t>
            </a:r>
            <a:br>
              <a:rPr sz="32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Рисунок 10" descr="diagnos.21"/>
          <p:cNvPicPr/>
          <p:nvPr/>
        </p:nvPicPr>
        <p:blipFill>
          <a:blip r:embed="rId1"/>
          <a:stretch/>
        </p:blipFill>
        <p:spPr>
          <a:xfrm>
            <a:off x="714240" y="1500120"/>
            <a:ext cx="8156880" cy="44434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4146480" y="557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4861080" y="557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575320" y="557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6218280" y="557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6932520" y="557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1"/>
          <p:cNvSpPr/>
          <p:nvPr/>
        </p:nvSpPr>
        <p:spPr>
          <a:xfrm>
            <a:off x="1431000" y="557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2"/>
          <p:cNvSpPr/>
          <p:nvPr/>
        </p:nvSpPr>
        <p:spPr>
          <a:xfrm>
            <a:off x="2073960" y="557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3506760" y="557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7650360" y="5572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2788560" y="557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17"/>
          <p:cNvSpPr/>
          <p:nvPr/>
        </p:nvSpPr>
        <p:spPr>
          <a:xfrm>
            <a:off x="1214280" y="3571920"/>
            <a:ext cx="6929640" cy="1440"/>
          </a:xfrm>
          <a:prstGeom prst="line">
            <a:avLst/>
          </a:prstGeom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27"/>
          <p:cNvSpPr/>
          <p:nvPr/>
        </p:nvSpPr>
        <p:spPr>
          <a:xfrm flipH="1">
            <a:off x="7429680" y="1857240"/>
            <a:ext cx="1440" cy="3786480"/>
          </a:xfrm>
          <a:prstGeom prst="line">
            <a:avLst/>
          </a:prstGeom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29"/>
          <p:cNvSpPr/>
          <p:nvPr/>
        </p:nvSpPr>
        <p:spPr>
          <a:xfrm flipH="1">
            <a:off x="4000680" y="1857240"/>
            <a:ext cx="1440" cy="3787920"/>
          </a:xfrm>
          <a:prstGeom prst="line">
            <a:avLst/>
          </a:prstGeom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6"/>
          <p:cNvSpPr/>
          <p:nvPr/>
        </p:nvSpPr>
        <p:spPr>
          <a:xfrm>
            <a:off x="1000080" y="6143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TextBox 18"/>
          <p:cNvGrpSpPr/>
          <p:nvPr/>
        </p:nvGrpSpPr>
        <p:grpSpPr>
          <a:xfrm>
            <a:off x="5136120" y="6303960"/>
            <a:ext cx="2986560" cy="534960"/>
            <a:chOff x="5136120" y="6303960"/>
            <a:chExt cx="2986560" cy="534960"/>
          </a:xfrm>
        </p:grpSpPr>
        <p:pic>
          <p:nvPicPr>
            <p:cNvPr id="253" name="TextBox 18" descr=""/>
            <p:cNvPicPr/>
            <p:nvPr/>
          </p:nvPicPr>
          <p:blipFill>
            <a:blip r:embed="rId2"/>
            <a:stretch/>
          </p:blipFill>
          <p:spPr>
            <a:xfrm>
              <a:off x="5168880" y="6303960"/>
              <a:ext cx="290844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36120" y="6357960"/>
              <a:ext cx="2986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ешите </a:t>
              </a: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 action="ppaction://hlinksldjump"/>
                </a:rPr>
                <a:t>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1"/>
          <a:stretch/>
        </p:blipFill>
        <p:spPr>
          <a:xfrm>
            <a:off x="712800" y="500040"/>
            <a:ext cx="8437680" cy="12924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26" descr="diagnos.51"/>
          <p:cNvPicPr/>
          <p:nvPr/>
        </p:nvPicPr>
        <p:blipFill>
          <a:blip r:embed="rId2"/>
          <a:stretch/>
        </p:blipFill>
        <p:spPr>
          <a:xfrm>
            <a:off x="500040" y="1857240"/>
            <a:ext cx="6786720" cy="35290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ая соединительная линия 4"/>
          <p:cNvSpPr/>
          <p:nvPr/>
        </p:nvSpPr>
        <p:spPr>
          <a:xfrm flipV="1">
            <a:off x="1926360" y="3502080"/>
            <a:ext cx="1800" cy="1643040"/>
          </a:xfrm>
          <a:prstGeom prst="line">
            <a:avLst/>
          </a:prstGeom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5"/>
          <p:cNvSpPr/>
          <p:nvPr/>
        </p:nvSpPr>
        <p:spPr>
          <a:xfrm>
            <a:off x="1071720" y="3500280"/>
            <a:ext cx="857160" cy="1800"/>
          </a:xfrm>
          <a:prstGeom prst="line">
            <a:avLst/>
          </a:prstGeom>
          <a:ln w="25560">
            <a:solidFill>
              <a:srgbClr val="0bd0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2182680" y="514368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    5    6     7    8     9   10   11   12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 flipV="1">
            <a:off x="4785480" y="4287600"/>
            <a:ext cx="1800" cy="857160"/>
          </a:xfrm>
          <a:prstGeom prst="line">
            <a:avLst/>
          </a:prstGeom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27"/>
          <p:cNvSpPr/>
          <p:nvPr/>
        </p:nvSpPr>
        <p:spPr>
          <a:xfrm flipV="1">
            <a:off x="5643720" y="3929040"/>
            <a:ext cx="1440" cy="1216080"/>
          </a:xfrm>
          <a:prstGeom prst="line">
            <a:avLst/>
          </a:prstGeom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33"/>
          <p:cNvSpPr/>
          <p:nvPr/>
        </p:nvSpPr>
        <p:spPr>
          <a:xfrm>
            <a:off x="1071720" y="3929040"/>
            <a:ext cx="4572000" cy="1440"/>
          </a:xfrm>
          <a:prstGeom prst="line">
            <a:avLst/>
          </a:prstGeom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7"/>
          <p:cNvSpPr/>
          <p:nvPr/>
        </p:nvSpPr>
        <p:spPr>
          <a:xfrm>
            <a:off x="7203600" y="221472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* 800=80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9"/>
          <p:cNvSpPr/>
          <p:nvPr/>
        </p:nvSpPr>
        <p:spPr>
          <a:xfrm>
            <a:off x="7328520" y="271476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* 400=24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0"/>
          <p:cNvSpPr/>
          <p:nvPr/>
        </p:nvSpPr>
        <p:spPr>
          <a:xfrm>
            <a:off x="7328520" y="314316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* 600=24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2"/>
          <p:cNvSpPr/>
          <p:nvPr/>
        </p:nvSpPr>
        <p:spPr>
          <a:xfrm>
            <a:off x="6938640" y="35002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0 – 4800=3200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3"/>
          <p:cNvSpPr/>
          <p:nvPr/>
        </p:nvSpPr>
        <p:spPr>
          <a:xfrm>
            <a:off x="1505520" y="59292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52"/>
          <p:cNvSpPr/>
          <p:nvPr/>
        </p:nvSpPr>
        <p:spPr>
          <a:xfrm flipH="1" flipV="1">
            <a:off x="1071720" y="4285800"/>
            <a:ext cx="3714480" cy="1800"/>
          </a:xfrm>
          <a:prstGeom prst="line">
            <a:avLst/>
          </a:prstGeom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3"/>
          <p:cNvSpPr/>
          <p:nvPr/>
        </p:nvSpPr>
        <p:spPr>
          <a:xfrm flipH="1">
            <a:off x="428760" y="3357720"/>
            <a:ext cx="714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TextBox 57"/>
          <p:cNvGrpSpPr/>
          <p:nvPr/>
        </p:nvGrpSpPr>
        <p:grpSpPr>
          <a:xfrm>
            <a:off x="5421960" y="6156360"/>
            <a:ext cx="2986560" cy="536400"/>
            <a:chOff x="5421960" y="6156360"/>
            <a:chExt cx="2986560" cy="536400"/>
          </a:xfrm>
        </p:grpSpPr>
        <p:pic>
          <p:nvPicPr>
            <p:cNvPr id="271" name="TextBox 57" descr=""/>
            <p:cNvPicPr/>
            <p:nvPr/>
          </p:nvPicPr>
          <p:blipFill>
            <a:blip r:embed="rId3"/>
            <a:stretch/>
          </p:blipFill>
          <p:spPr>
            <a:xfrm>
              <a:off x="5456160" y="6156360"/>
              <a:ext cx="2906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421960" y="6215040"/>
              <a:ext cx="2986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ешите </a:t>
              </a: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4" action="ppaction://hlinksldjump"/>
                </a:rPr>
                <a:t>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78960" y="793800"/>
            <a:ext cx="805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6. На рисунке жирными точками показано суточное количество осадк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выпадавших в Казани с 3 по 15 февраля 1909 года. По горизонтали указываю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числа месяца, по вертикали — количество осадков, выпавших в соответствую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день, в миллиметрах. Для наглядности жирные точки на рисунке соединены лин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Определите по рисунку, сколько дней из данного периода выпадало бол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 миллиметров осад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928" descr="MA.E10.B2.185/innerimg0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32148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1003680" y="6143760"/>
            <a:ext cx="10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5"/>
          <p:cNvSpPr/>
          <p:nvPr/>
        </p:nvSpPr>
        <p:spPr>
          <a:xfrm>
            <a:off x="1143000" y="4000680"/>
            <a:ext cx="7072200" cy="1440"/>
          </a:xfrm>
          <a:prstGeom prst="line">
            <a:avLst/>
          </a:prstGeom>
          <a:ln w="38160">
            <a:solidFill>
              <a:srgbClr val="10cf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TextBox 7"/>
          <p:cNvGrpSpPr/>
          <p:nvPr/>
        </p:nvGrpSpPr>
        <p:grpSpPr>
          <a:xfrm>
            <a:off x="5421960" y="6156360"/>
            <a:ext cx="2986560" cy="536400"/>
            <a:chOff x="5421960" y="6156360"/>
            <a:chExt cx="2986560" cy="536400"/>
          </a:xfrm>
        </p:grpSpPr>
        <p:pic>
          <p:nvPicPr>
            <p:cNvPr id="278" name="TextBox 7" descr=""/>
            <p:cNvPicPr/>
            <p:nvPr/>
          </p:nvPicPr>
          <p:blipFill>
            <a:blip r:embed="rId2"/>
            <a:stretch/>
          </p:blipFill>
          <p:spPr>
            <a:xfrm>
              <a:off x="5456160" y="6156360"/>
              <a:ext cx="2906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421960" y="6215040"/>
              <a:ext cx="29865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onstantia"/>
                </a:rPr>
                <a:t>Решите </a:t>
              </a:r>
              <a:r>
                <a:rPr b="0" lang="ru-RU" sz="1800" spc="-1" strike="noStrike" u="sng">
                  <a:solidFill>
                    <a:srgbClr val="e2d700"/>
                  </a:solidFill>
                  <a:uFillTx/>
                  <a:latin typeface="Constantia"/>
                  <a:hlinkClick r:id="rId3" action="ppaction://hlinksldjump"/>
                </a:rPr>
                <a:t>самостоятель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682560" y="139680"/>
            <a:ext cx="85647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"/>
          <p:cNvGraphicFramePr/>
          <p:nvPr/>
        </p:nvGraphicFramePr>
        <p:xfrm>
          <a:off x="1523880" y="2846520"/>
          <a:ext cx="6096240" cy="3952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5280">
                <a:tc>
                  <a:txBody>
                    <a:bodyPr lIns="5724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240" marR="57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2" name="Рисунок 15" descr="b2.6"/>
          <p:cNvPicPr/>
          <p:nvPr/>
        </p:nvPicPr>
        <p:blipFill>
          <a:blip r:embed="rId2"/>
          <a:stretch/>
        </p:blipFill>
        <p:spPr>
          <a:xfrm>
            <a:off x="714240" y="2000160"/>
            <a:ext cx="7429680" cy="40006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Стрелка влево 9"/>
          <p:cNvGrpSpPr/>
          <p:nvPr/>
        </p:nvGrpSpPr>
        <p:grpSpPr>
          <a:xfrm>
            <a:off x="7785000" y="6035760"/>
            <a:ext cx="554040" cy="504720"/>
            <a:chOff x="7785000" y="6035760"/>
            <a:chExt cx="554040" cy="504720"/>
          </a:xfrm>
        </p:grpSpPr>
        <p:pic>
          <p:nvPicPr>
            <p:cNvPr id="286" name="Стрелка влево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785000" y="6035760"/>
              <a:ext cx="554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947000" y="6161040"/>
              <a:ext cx="317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Стрелка вправо 10"/>
          <p:cNvGrpSpPr/>
          <p:nvPr/>
        </p:nvGrpSpPr>
        <p:grpSpPr>
          <a:xfrm>
            <a:off x="8358120" y="6029280"/>
            <a:ext cx="554040" cy="523800"/>
            <a:chOff x="8358120" y="6029280"/>
            <a:chExt cx="554040" cy="523800"/>
          </a:xfrm>
        </p:grpSpPr>
        <p:pic>
          <p:nvPicPr>
            <p:cNvPr id="289" name="Стрелка вправо 1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358120" y="6029280"/>
              <a:ext cx="55404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8429760" y="6161040"/>
              <a:ext cx="3175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57120" y="2071800"/>
            <a:ext cx="8786880" cy="41716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2"/>
          <p:cNvSpPr/>
          <p:nvPr/>
        </p:nvSpPr>
        <p:spPr>
          <a:xfrm>
            <a:off x="500040" y="642960"/>
            <a:ext cx="82868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595959"/>
                </a:solidFill>
                <a:uFillTx/>
                <a:latin typeface="Times New Roman"/>
                <a:ea typeface="Times New Roman"/>
              </a:rPr>
              <a:t>Решаем самостоятель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.2.На графике показано изменение температуры воздуха на протяжении трех сут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На оси абсцисс отмечается время суток в часах, на оси ординат – значение температуры в градусах. Определите по графику наибольшую температуру возду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5 авгус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2:18:26Z</dcterms:created>
  <dc:creator>Марина</dc:creator>
  <dc:description/>
  <dc:language>en-US</dc:language>
  <cp:lastModifiedBy>Марина</cp:lastModifiedBy>
  <dcterms:modified xsi:type="dcterms:W3CDTF">2009-11-21T22:50:46Z</dcterms:modified>
  <cp:revision>62</cp:revision>
  <dc:subject/>
  <dc:title>Решение задач  для подготовки к ЕГЭ</dc:title>
</cp:coreProperties>
</file>